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6926-88F7-4D19-85A2-AB524F3057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diagramme montre que la définition des concepts d'UML s'appuie sur ceux de Core, mais c'est aussi vrai pour le MOF et d'autres spécifications de l'OMG telle que CW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définition des profiles, qui s'appuie aussi sur Core est extrait d'UML car elle peut être utilisée indépendam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 profile se représente comme un package stéréotypé &lt;&lt;profile&gt;&gt; (ex: EJ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e metaclasse étendue peut se représenter avec le stéréotype &lt;&lt;metaclass&gt;&gt; (ex: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  stéréotype se représente comme une classe stéréotypée &lt;&lt;stereotype&gt;&gt; (ex: Ho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 stéréotype peut être abstrait (ex: B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{required} sur le lien d'extension indique que l'application du stéréotype est obligatoire. Ici, tout composant présent dans un package qui applique le profile EJB doit être stéréotypé Bean, Entity ou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solution est une tagged value dont la valeur (2) est montrée dans une note associée à la classe StopWatch stéréotypée &lt;&lt;clock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 est une métaclass U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ock est un stéréotype de c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topWatch est une classe de modèle (stéréotypée &lt;&lt;clock&gt;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métamodèle de référence n'est pas forcément UML, cela peut-être tout méta-modèle aligné sur le MOF : CWM, M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 stéréotype peut aussi étendre un autre stéré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 UML 2.0, les stéréotypes étant des classes, il est possible de défini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opérations qui peuvent contenir du code de manipulation de modèle (OCL, 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associations (redéfinition d'associations du métamodèle de réfé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contrai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B27E-1F51-4D6C-9605-7A411455F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0143-BA44-4593-A545-D5D8E9F3C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459B-D03C-4732-8423-89D038AD8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DC12-E326-4768-9EC1-91105AE59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76E8-5857-43E4-96D4-CA3ED6DF16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BFD7-6C66-4835-871C-0DE0FA8E7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CD86-0AF3-471B-8726-EA777C12D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09CD-EB94-4AA0-8EE0-466782BF1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E277-8AF2-44D4-B0E8-65858689F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A790-4F88-424D-B020-12A45EA2B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8C41-3B82-41FC-94F5-9428AE981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3AB2-D5D8-4141-9AEF-60BBCA0A9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UML Pro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E06289F3-7ED2-4F5A-A8D6-A40F98004589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SOFT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ww@softeam.c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The UML Profile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2"/>
                </a:solidFill>
                <a:latin typeface="Comic Sans MS"/>
              </a:rPr>
              <a:t>SOF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144 Ave des Champs Elys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75008 Paris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@softea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6345360"/>
            <a:ext cx="1709640" cy="51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751E-86E0-4A1D-B40C-75E4BD030C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OF/Profile alignment (benefit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6240" y="1947960"/>
            <a:ext cx="8897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Packag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Profil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42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Clas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Stereotype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1700" spc="-1" strike="noStrike">
                <a:solidFill>
                  <a:srgbClr val="000066"/>
                </a:solidFill>
                <a:latin typeface="Comic Sans MS"/>
              </a:rPr>
              <a:t>(restricted usage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42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Property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Property </a:t>
            </a:r>
            <a:r>
              <a:rPr b="0" lang="fr-FR" sz="1700" spc="-1" strike="noStrike">
                <a:solidFill>
                  <a:srgbClr val="000066"/>
                </a:solidFill>
                <a:latin typeface="Comic Sans MS"/>
              </a:rPr>
              <a:t>(was tagged definition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Operation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Oper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Constrain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Constrain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42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association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Association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1700" spc="-1" strike="noStrike">
                <a:solidFill>
                  <a:srgbClr val="000066"/>
                </a:solidFill>
                <a:latin typeface="Comic Sans MS"/>
              </a:rPr>
              <a:t>(restricted usage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42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Core/MOF association</a:t>
            </a:r>
            <a:r>
              <a:rPr b="0" lang="fr-F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Extension </a:t>
            </a:r>
            <a:r>
              <a:rPr b="0" lang="fr-FR" sz="1700" spc="-1" strike="noStrike">
                <a:solidFill>
                  <a:srgbClr val="000066"/>
                </a:solidFill>
                <a:latin typeface="Comic Sans MS"/>
              </a:rPr>
              <a:t>(specific "pattern"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6C2A-9CC0-44C6-8B18-BFF607D8AEBD}" type="slidenum">
              <a:t>10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7" dur="1" fill="hold"/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Rationale for Using Profiles Vs MOF (benefit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400" y="1116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Profil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e used for extending the UML language (the « reference metamodel »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e supported by UML Case too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Guarantee the UML conformance of the extension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Provide a dynamic extension capacity (i.e. extending an existing model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Typical example: UML for a certain purpos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MOF extension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e used to create new metamode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pply to any meta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New models are created from MOF extensions (no existing model update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e supported by MetaCase tools or infrastructur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Typical example: New metamodel (e.g. DSL, workflow, UML, etc.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279B-E1D7-42FF-A84A-2983875C9B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: Histor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131480"/>
            <a:ext cx="8921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 1.0: (1999) Stereotypes and tagged values were defined as specific strings attached to ModelElements. Stereotypes were defined at the level of the model itself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1.4: (2002) The notion of UML profile was more formally defined. Profiles organize Stereotypes, which may contain tagged values. Tagged values can be directly extend model elements, without stereo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 2.0: (2005) Stereotypes are now defined at M2 (metaclass level). The Profile notion is completely formalized, in correspondence and conjunction with the metamodel (MOF). A notation is defined, and the “extension” capacity is formaliz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0603-8344-428E-87A8-BAAFE06690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1576200">
            <a:off x="2141640" y="1295280"/>
            <a:ext cx="4495680" cy="495324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195800">
            <a:off x="2706480" y="3084120"/>
            <a:ext cx="3894120" cy="236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’s position within the UML2/MOF2 architectur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95480" y="1716120"/>
            <a:ext cx="5410440" cy="3722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5486400" y="1258920"/>
            <a:ext cx="4572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106640"/>
            <a:ext cx="2286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Super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486400" y="5144760"/>
            <a:ext cx="9144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5754600"/>
            <a:ext cx="2286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ACFC-2ACC-497C-A085-D28D089D9C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 : Notations 1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686800" cy="445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52480" y="762120"/>
            <a:ext cx="9144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76520" y="106668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914400"/>
            <a:ext cx="137160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Extens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1447920"/>
            <a:ext cx="4572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914400"/>
            <a:ext cx="1143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stere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12193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86160" y="914400"/>
            <a:ext cx="2023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Abstract stere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352680" y="1219320"/>
            <a:ext cx="106704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5105520"/>
            <a:ext cx="182880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Metaclass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324120" y="3962160"/>
            <a:ext cx="76212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6019920"/>
            <a:ext cx="2286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Attribute = Tagged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962520" y="5410080"/>
            <a:ext cx="45720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6019920"/>
            <a:ext cx="1143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599840" y="5333760"/>
            <a:ext cx="304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D38D-3DBD-4531-986E-E51A8C5C733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 : Notation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8376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ing the « Clock » stereo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pplying the Clock stereotype on the StopWatch 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16268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8120" y="4876920"/>
            <a:ext cx="323856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5A61-C2E6-4FAB-AFFB-E057FCD6A7B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 : Example (Usage of UML extension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094200" y="2701800"/>
            <a:ext cx="3798720" cy="154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&lt;&lt;persistent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{storageMode = hash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7160" y="2781360"/>
            <a:ext cx="231840" cy="3207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94200" y="4235400"/>
            <a:ext cx="3800160" cy="64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&lt;&lt;identifier&gt;&gt;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umber 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0360" y="349740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Stere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0000" y="39434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Tagg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79520" y="3103560"/>
            <a:ext cx="1741680" cy="525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8600" y="3537000"/>
            <a:ext cx="920880" cy="850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609640" y="3927600"/>
            <a:ext cx="1006200" cy="193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08200" y="54673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7120" y="5913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160" y="3048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Times New Roman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60320" y="50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Times New Roman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513160" y="3603600"/>
            <a:ext cx="1798560" cy="196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830680" y="4707000"/>
            <a:ext cx="2273040" cy="1292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523200" y="3476520"/>
            <a:ext cx="1731960" cy="1687320"/>
            <a:chOff x="6523200" y="3476520"/>
            <a:chExt cx="1731960" cy="1687320"/>
          </a:xfrm>
        </p:grpSpPr>
        <p:sp>
          <p:nvSpPr>
            <p:cNvPr id="138" name=""/>
            <p:cNvSpPr/>
            <p:nvPr/>
          </p:nvSpPr>
          <p:spPr>
            <a:xfrm>
              <a:off x="6523200" y="3493800"/>
              <a:ext cx="1731960" cy="1670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27880" y="3476520"/>
              <a:ext cx="1657440" cy="1631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67480" y="3524040"/>
              <a:ext cx="1633680" cy="1571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72160" y="3636720"/>
              <a:ext cx="164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Generate SQ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70040" y="43527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36680" y="4397400"/>
            <a:ext cx="4456080" cy="120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760" y="950760"/>
            <a:ext cx="8340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Below is a user model example, with extensions. That example supports extension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We will see how they are defined at the profile definition leve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F9FF-9E30-4384-8A8F-965E60FA1F9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 : Example (Definition of the UML extension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443320" y="1504800"/>
            <a:ext cx="1285560" cy="641520"/>
            <a:chOff x="2443320" y="1504800"/>
            <a:chExt cx="1285560" cy="641520"/>
          </a:xfrm>
        </p:grpSpPr>
        <p:sp>
          <p:nvSpPr>
            <p:cNvPr id="147" name=""/>
            <p:cNvSpPr/>
            <p:nvPr/>
          </p:nvSpPr>
          <p:spPr>
            <a:xfrm>
              <a:off x="2443320" y="1504800"/>
              <a:ext cx="1285560" cy="64152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4400" y="1814400"/>
              <a:ext cx="4366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305840" y="1789200"/>
            <a:ext cx="1387440" cy="619200"/>
            <a:chOff x="7305840" y="1789200"/>
            <a:chExt cx="1387440" cy="619200"/>
          </a:xfrm>
        </p:grpSpPr>
        <p:sp>
          <p:nvSpPr>
            <p:cNvPr id="150" name=""/>
            <p:cNvSpPr/>
            <p:nvPr/>
          </p:nvSpPr>
          <p:spPr>
            <a:xfrm>
              <a:off x="7305840" y="1789200"/>
              <a:ext cx="1387440" cy="619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16160" y="2079720"/>
              <a:ext cx="73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Times New Roman"/>
                </a:rPr>
                <a:t>Proper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59120" y="2862360"/>
            <a:ext cx="2411280" cy="980640"/>
            <a:chOff x="1959120" y="2862360"/>
            <a:chExt cx="2411280" cy="980640"/>
          </a:xfrm>
        </p:grpSpPr>
        <p:sp>
          <p:nvSpPr>
            <p:cNvPr id="153" name=""/>
            <p:cNvSpPr/>
            <p:nvPr/>
          </p:nvSpPr>
          <p:spPr>
            <a:xfrm>
              <a:off x="1959120" y="2862360"/>
              <a:ext cx="2411280" cy="59508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43040" y="2889000"/>
              <a:ext cx="12124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&lt;&lt;stereotype&gt;&gt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5800" y="3139920"/>
              <a:ext cx="79632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Times New Roman"/>
                </a:rPr>
                <a:t>persist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59120" y="3458880"/>
              <a:ext cx="2411280" cy="38412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75680" y="3541680"/>
              <a:ext cx="231264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storageMode : KindOfStora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443720" y="3254400"/>
            <a:ext cx="1387440" cy="619200"/>
            <a:chOff x="7443720" y="3254400"/>
            <a:chExt cx="1387440" cy="619200"/>
          </a:xfrm>
        </p:grpSpPr>
        <p:sp>
          <p:nvSpPr>
            <p:cNvPr id="159" name=""/>
            <p:cNvSpPr/>
            <p:nvPr/>
          </p:nvSpPr>
          <p:spPr>
            <a:xfrm>
              <a:off x="7443720" y="3254400"/>
              <a:ext cx="1387440" cy="619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3840" y="3286440"/>
              <a:ext cx="121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&lt;&lt;stereotype&gt;&gt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8560" y="353880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Times New Roman"/>
                </a:rPr>
                <a:t>identifi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032360" y="1417680"/>
            <a:ext cx="3143160" cy="944640"/>
          </a:xfrm>
          <a:custGeom>
            <a:avLst/>
            <a:gdLst/>
            <a:ahLst/>
            <a:rect l="l" t="t" r="r" b="b"/>
            <a:pathLst>
              <a:path w="1785" h="585">
                <a:moveTo>
                  <a:pt x="1785" y="100"/>
                </a:moveTo>
                <a:lnTo>
                  <a:pt x="1699" y="0"/>
                </a:lnTo>
                <a:lnTo>
                  <a:pt x="0" y="0"/>
                </a:lnTo>
                <a:lnTo>
                  <a:pt x="0" y="585"/>
                </a:lnTo>
                <a:lnTo>
                  <a:pt x="1785" y="585"/>
                </a:lnTo>
                <a:lnTo>
                  <a:pt x="1785" y="100"/>
                </a:lnTo>
                <a:lnTo>
                  <a:pt x="1699" y="100"/>
                </a:lnTo>
                <a:lnTo>
                  <a:pt x="1699" y="0"/>
                </a:lnTo>
              </a:path>
            </a:pathLst>
          </a:cu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8400" y="1455840"/>
            <a:ext cx="79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Constra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53680" y="1681200"/>
            <a:ext cx="302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Times New Roman"/>
              </a:rPr>
              <a:t>{A persistent class, or one of its par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1893960"/>
            <a:ext cx="23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Times New Roman"/>
              </a:rPr>
              <a:t>classes must have at least 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21360" y="2106720"/>
            <a:ext cx="199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Times New Roman"/>
              </a:rPr>
              <a:t>&lt;&lt;identifier&gt;&gt; attribute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84800" y="2376360"/>
            <a:ext cx="546120" cy="905040"/>
          </a:xfrm>
          <a:custGeom>
            <a:avLst/>
            <a:gdLst/>
            <a:ahLst/>
            <a:rect l="l" t="t" r="r" b="b"/>
            <a:pathLst>
              <a:path w="530" h="552">
                <a:moveTo>
                  <a:pt x="530" y="0"/>
                </a:moveTo>
                <a:lnTo>
                  <a:pt x="530" y="552"/>
                </a:lnTo>
                <a:lnTo>
                  <a:pt x="0" y="552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0640" y="2317680"/>
            <a:ext cx="1001880" cy="1114560"/>
          </a:xfrm>
          <a:custGeom>
            <a:avLst/>
            <a:gdLst/>
            <a:ahLst/>
            <a:rect l="l" t="t" r="r" b="b"/>
            <a:pathLst>
              <a:path w="631" h="702">
                <a:moveTo>
                  <a:pt x="0" y="0"/>
                </a:moveTo>
                <a:lnTo>
                  <a:pt x="0" y="702"/>
                </a:lnTo>
                <a:lnTo>
                  <a:pt x="631" y="702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52640" y="2130480"/>
            <a:ext cx="6209640" cy="2049480"/>
            <a:chOff x="1952640" y="2130480"/>
            <a:chExt cx="6209640" cy="2049480"/>
          </a:xfrm>
        </p:grpSpPr>
        <p:grpSp>
          <p:nvGrpSpPr>
            <p:cNvPr id="170" name=""/>
            <p:cNvGrpSpPr/>
            <p:nvPr/>
          </p:nvGrpSpPr>
          <p:grpSpPr>
            <a:xfrm>
              <a:off x="3087720" y="2130480"/>
              <a:ext cx="147600" cy="738360"/>
              <a:chOff x="3087720" y="2130480"/>
              <a:chExt cx="147600" cy="738360"/>
            </a:xfrm>
          </p:grpSpPr>
          <p:sp>
            <p:nvSpPr>
              <p:cNvPr id="171" name=""/>
              <p:cNvSpPr/>
              <p:nvPr/>
            </p:nvSpPr>
            <p:spPr>
              <a:xfrm>
                <a:off x="3087720" y="2130480"/>
                <a:ext cx="147600" cy="163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62240" y="2278080"/>
                <a:ext cx="0" cy="59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988040" y="2414520"/>
              <a:ext cx="174240" cy="870840"/>
              <a:chOff x="7988040" y="2414520"/>
              <a:chExt cx="174240" cy="870840"/>
            </a:xfrm>
          </p:grpSpPr>
          <p:sp>
            <p:nvSpPr>
              <p:cNvPr id="174" name=""/>
              <p:cNvSpPr/>
              <p:nvPr/>
            </p:nvSpPr>
            <p:spPr>
              <a:xfrm>
                <a:off x="7988040" y="2414520"/>
                <a:ext cx="174240" cy="192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75880" y="2588400"/>
                <a:ext cx="0" cy="69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952640" y="3841920"/>
              <a:ext cx="2419200" cy="338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Times New Roman"/>
                </a:rPr>
                <a:t>generateSQL 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96320" y="48355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Attribute (== tagged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85680" y="5330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51960" y="35989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Stere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627000" y="3313080"/>
            <a:ext cx="1484280" cy="501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299280" y="3830760"/>
            <a:ext cx="1743120" cy="1160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763800" y="3755880"/>
            <a:ext cx="1548000" cy="12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111480" y="4116240"/>
            <a:ext cx="1548000" cy="12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2480" y="571176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The icon «      » is a property of the stere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808000" y="4238640"/>
            <a:ext cx="6120" cy="151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08280" y="5788080"/>
            <a:ext cx="231480" cy="3207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6673-254C-451C-BB3F-BB314F60FE0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85920" y="3141720"/>
            <a:ext cx="107172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 </a:t>
            </a: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93840" y="3454560"/>
            <a:ext cx="4846680" cy="29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Extending Metaclass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66"/>
                </a:solidFill>
                <a:latin typeface="Comic Sans MS"/>
              </a:rPr>
              <a:t>A profile consists primarily of stereo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Comic Sans MS"/>
              </a:rPr>
              <a:t>restricted metaclasses that can only be used to extend existing metaclass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2430360" y="363528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83040" y="364500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Be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59320" y="4044960"/>
            <a:ext cx="13204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512160" y="3962880"/>
            <a:ext cx="217440" cy="158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5400" y="371016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{required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3240" y="5175360"/>
            <a:ext cx="1117800" cy="6969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ession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8240" y="5167440"/>
            <a:ext cx="1117440" cy="7128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59320" y="4437000"/>
            <a:ext cx="262080" cy="131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5200" y="4568760"/>
            <a:ext cx="784440" cy="609840"/>
          </a:xfrm>
          <a:custGeom>
            <a:avLst/>
            <a:gdLst/>
            <a:ahLst/>
            <a:rect l="l" t="t" r="r" b="b"/>
            <a:pathLst>
              <a:path w="494" h="384">
                <a:moveTo>
                  <a:pt x="494" y="0"/>
                </a:moveTo>
                <a:lnTo>
                  <a:pt x="494" y="192"/>
                </a:lnTo>
                <a:lnTo>
                  <a:pt x="0" y="192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9640" y="4873680"/>
            <a:ext cx="812880" cy="274680"/>
          </a:xfrm>
          <a:custGeom>
            <a:avLst/>
            <a:gdLst/>
            <a:ahLst/>
            <a:rect l="l" t="t" r="r" b="b"/>
            <a:pathLst>
              <a:path w="512" h="173">
                <a:moveTo>
                  <a:pt x="0" y="0"/>
                </a:moveTo>
                <a:lnTo>
                  <a:pt x="512" y="0"/>
                </a:lnTo>
                <a:lnTo>
                  <a:pt x="512" y="173"/>
                </a:lnTo>
              </a:path>
            </a:pathLst>
          </a:custGeom>
          <a:noFill/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38560" y="5742000"/>
            <a:ext cx="1117800" cy="3636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: State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71760" y="5181480"/>
            <a:ext cx="111744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enumeration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Kind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67080" y="5748480"/>
            <a:ext cx="111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29EF-CB6D-45E1-8148-3C462F2354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Applying a Profi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200160" y="974880"/>
            <a:ext cx="10713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 </a:t>
            </a: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8080" y="1287360"/>
            <a:ext cx="4846680" cy="29466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4600" y="146844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7280" y="1477800"/>
            <a:ext cx="1117440" cy="79884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Be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572840" y="1878120"/>
            <a:ext cx="13208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1526400" y="1796040"/>
            <a:ext cx="217440" cy="158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79280" y="154296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{required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57480" y="3008160"/>
            <a:ext cx="1117440" cy="6969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ession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2120" y="3000240"/>
            <a:ext cx="1117800" cy="7128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73560" y="2270160"/>
            <a:ext cx="261720" cy="131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9440" y="2401920"/>
            <a:ext cx="784080" cy="609480"/>
          </a:xfrm>
          <a:custGeom>
            <a:avLst/>
            <a:gdLst/>
            <a:ahLst/>
            <a:rect l="l" t="t" r="r" b="b"/>
            <a:pathLst>
              <a:path w="494" h="384">
                <a:moveTo>
                  <a:pt x="494" y="0"/>
                </a:moveTo>
                <a:lnTo>
                  <a:pt x="494" y="192"/>
                </a:lnTo>
                <a:lnTo>
                  <a:pt x="0" y="192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3520" y="2706840"/>
            <a:ext cx="812880" cy="274320"/>
          </a:xfrm>
          <a:custGeom>
            <a:avLst/>
            <a:gdLst/>
            <a:ahLst/>
            <a:rect l="l" t="t" r="r" b="b"/>
            <a:pathLst>
              <a:path w="512" h="173">
                <a:moveTo>
                  <a:pt x="0" y="0"/>
                </a:moveTo>
                <a:lnTo>
                  <a:pt x="512" y="0"/>
                </a:lnTo>
                <a:lnTo>
                  <a:pt x="512" y="173"/>
                </a:lnTo>
              </a:path>
            </a:pathLst>
          </a:custGeom>
          <a:noFill/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66840" y="3575160"/>
            <a:ext cx="1117800" cy="3636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: State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5640" y="3014640"/>
            <a:ext cx="111780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enumeration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Kind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960" y="3581280"/>
            <a:ext cx="1117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61000" y="2946240"/>
            <a:ext cx="1071720" cy="3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User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54520" y="3259080"/>
            <a:ext cx="3192480" cy="15382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051160" y="2430000"/>
            <a:ext cx="1160280" cy="5223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71920" y="229716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apply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10120" y="3638520"/>
            <a:ext cx="111780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ession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ustomer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05440" y="4205160"/>
            <a:ext cx="1117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name: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789600" y="3664080"/>
            <a:ext cx="191880" cy="234720"/>
            <a:chOff x="6789600" y="3664080"/>
            <a:chExt cx="191880" cy="234720"/>
          </a:xfrm>
        </p:grpSpPr>
        <p:sp>
          <p:nvSpPr>
            <p:cNvPr id="227" name=""/>
            <p:cNvSpPr/>
            <p:nvPr/>
          </p:nvSpPr>
          <p:spPr>
            <a:xfrm>
              <a:off x="6836760" y="3664080"/>
              <a:ext cx="144720" cy="23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9600" y="3695400"/>
              <a:ext cx="90720" cy="5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95360" y="3799080"/>
              <a:ext cx="90720" cy="5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V="1">
            <a:off x="7551720" y="3635280"/>
            <a:ext cx="1103400" cy="37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ahoma"/>
              </a:rPr>
              <a:t>state=statel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24680" y="3781440"/>
            <a:ext cx="52236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5397480"/>
            <a:ext cx="7493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pplying a profile makes the profile extension available to the model packages to which it is appli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E258-964B-4B23-93FB-01B3F5EFECC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6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92EB-9CAD-44E8-B95F-CEF3F49F989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Metamodel Excerp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1401840" y="2313000"/>
            <a:ext cx="1422360" cy="725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93920" y="3843360"/>
            <a:ext cx="1422360" cy="725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2880" y="3041640"/>
            <a:ext cx="304560" cy="16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3201840"/>
            <a:ext cx="0" cy="638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64040" y="2319480"/>
            <a:ext cx="1422360" cy="725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6120" y="3849840"/>
            <a:ext cx="1422360" cy="725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Stere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45080" y="3048120"/>
            <a:ext cx="304560" cy="16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9440" y="3208320"/>
            <a:ext cx="0" cy="638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9520" y="2322360"/>
            <a:ext cx="1422360" cy="7257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1600" y="3852720"/>
            <a:ext cx="1422360" cy="7257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70560" y="3051000"/>
            <a:ext cx="304920" cy="160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14920" y="3211560"/>
            <a:ext cx="0" cy="638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95920" y="2330280"/>
            <a:ext cx="1422720" cy="7257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Package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3860640"/>
            <a:ext cx="1422360" cy="7257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Profile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76960" y="3059280"/>
            <a:ext cx="304920" cy="16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21680" y="3219480"/>
            <a:ext cx="0" cy="638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514D-14FA-4D6E-B7E7-D5AF48F4C2F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Multiple Stereotyp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585720" y="1627200"/>
            <a:ext cx="107172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 </a:t>
            </a: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" y="1940040"/>
            <a:ext cx="3598560" cy="26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120" y="212076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68760" y="213048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Home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944720" y="2530440"/>
            <a:ext cx="8287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897560" y="2448360"/>
            <a:ext cx="217800" cy="158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6400" y="362592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Remote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380960" y="2936880"/>
            <a:ext cx="0" cy="6825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43080" y="2922480"/>
            <a:ext cx="290520" cy="1285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27480" y="1620720"/>
            <a:ext cx="107172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 </a:t>
            </a: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21360" y="1933560"/>
            <a:ext cx="3598920" cy="26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57880" y="211464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0520" y="362412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Interface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86480" y="4024440"/>
            <a:ext cx="8287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5400000">
            <a:off x="7124760" y="3942360"/>
            <a:ext cx="217440" cy="158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48160" y="3619440"/>
            <a:ext cx="1117800" cy="682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reator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923080" y="2930040"/>
            <a:ext cx="0" cy="6829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84840" y="2916360"/>
            <a:ext cx="290520" cy="1285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45280" y="4251240"/>
            <a:ext cx="1117440" cy="2905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date: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51120" y="4869000"/>
            <a:ext cx="1071720" cy="3189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User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59040" y="5181480"/>
            <a:ext cx="428148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4640" y="5560920"/>
            <a:ext cx="132084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remote, creator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ustomer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5240" y="5553000"/>
            <a:ext cx="132084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32240" y="5921280"/>
            <a:ext cx="114768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16160" y="558468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25320" y="59371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6280" y="4614840"/>
            <a:ext cx="841320" cy="1015920"/>
          </a:xfrm>
          <a:custGeom>
            <a:avLst/>
            <a:gdLst/>
            <a:ahLst/>
            <a:rect l="l" t="t" r="r" b="b"/>
            <a:pathLst>
              <a:path w="530" h="640">
                <a:moveTo>
                  <a:pt x="530" y="640"/>
                </a:moveTo>
                <a:lnTo>
                  <a:pt x="0" y="6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b2b2b2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039800" y="4610160"/>
            <a:ext cx="841320" cy="1015920"/>
          </a:xfrm>
          <a:custGeom>
            <a:avLst/>
            <a:gdLst/>
            <a:ahLst/>
            <a:rect l="l" t="t" r="r" b="b"/>
            <a:pathLst>
              <a:path w="530" h="640">
                <a:moveTo>
                  <a:pt x="530" y="640"/>
                </a:moveTo>
                <a:lnTo>
                  <a:pt x="0" y="6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b2b2b2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07800" y="473076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apply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19640" y="480996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apply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636480"/>
            <a:ext cx="704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everal stereotypes can be applied to a model element. A specific notation supports this fea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984120" y="1282680"/>
            <a:ext cx="723960" cy="4462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3ED4-7D5E-4D15-894D-60F6974AA6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tereotype extension semantic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5206" t="50696" r="6990" b="17808"/>
          <a:stretch/>
        </p:blipFill>
        <p:spPr>
          <a:xfrm>
            <a:off x="816120" y="1206360"/>
            <a:ext cx="7399080" cy="1641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rcRect l="5280" t="38617" r="3098" b="19432"/>
          <a:stretch/>
        </p:blipFill>
        <p:spPr>
          <a:xfrm>
            <a:off x="552600" y="4157640"/>
            <a:ext cx="8072280" cy="15908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42960" y="2833560"/>
            <a:ext cx="8050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Extension is not to be confused with Generalization. It is indeed a delegation pattern. Below, a MOF equivalent construct is shown. The dynamic extensibility features of profiles are due to the capacity to add links to stereotype instances on existing model el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6401-1BE8-47AE-99C9-3DBD18C8277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295280" y="12952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1480" y="31384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444680" y="200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39920" y="1995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29080" y="13636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62360" y="31924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605560" y="206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00800" y="2049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2120" y="4146480"/>
            <a:ext cx="4421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Extension can extend existing « ExtendedClass »  or subclass instanc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Class2 instances can for example also be extended by « Extension 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33760" y="3176640"/>
            <a:ext cx="1403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57400" y="19904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52640" y="197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94640" y="3218040"/>
            <a:ext cx="1403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132680" y="2087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27920" y="20732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3000" y="4110120"/>
            <a:ext cx="4122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« Usual » 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re will exist once for all separated « Extension » instances, « Class2 » instances and also « ExtendedClass only» instan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tension semantics (VS Generalization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0BC3-C159-4B06-8743-AA86615C683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23720" y="133812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1480" y="3138480"/>
            <a:ext cx="2681280" cy="67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444680" y="200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39920" y="1995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963960"/>
            <a:ext cx="45133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Extension can extend either (exclusively) ExtendedClass1 or ExtendedClass2. Extension does not define a « merge instance » of ExtendedClass1 and ExtendedClass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53000" y="4135320"/>
            <a:ext cx="44910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« Usual » 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« Extension » instance will always be also instances of  ExtendedClass1 and ExtendedClass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76520" y="133344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997360" y="2004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2600" y="1990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34000" y="134784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1760" y="3147840"/>
            <a:ext cx="2681280" cy="67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754600" y="2018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86440" y="134316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307280" y="2014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41920" y="2044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80200" y="199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tension semantics (1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CD09-E959-46C4-9164-E5BE8896119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295280" y="12952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1680" y="315288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344680" y="198072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39920" y="19670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4029120"/>
            <a:ext cx="416088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An instance of « ExtendedClass » will be able to be simultaneously extended by « Extension1 » and « Extension2 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45160" y="4213080"/>
            <a:ext cx="4082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« Usual » 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re may exist separate instance of « Extension1 » extending « ExtendedClass » and « Extension2 » extending « ExtendedClass 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54400" y="317664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71680" y="2629080"/>
            <a:ext cx="15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00120" y="262908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7200" y="263844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05440" y="131904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11840" y="317664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954840" y="200448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64200" y="320040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1840" y="2652840"/>
            <a:ext cx="15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10280" y="265284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7000" y="2662200"/>
            <a:ext cx="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37480" y="199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08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tension semantics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9C2C-9942-4139-B5B3-574B834B495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Miscellaneou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61440" y="110124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extension can be “required”. In this case, when a profile is applied to a model, each element which metaclass is extended by a required stereotype will be extended by this stereotyp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tereotype cannot inherit a metaclass, nor the opposit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extended metamodel is called the reference metamodel. It is a “read only”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tereotype properties can have complex types (such as classes/metaclasse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ssociations can exist, navigable from a stereotype to a metaclass or stereotyp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0508-19AD-4647-9D73-D26527FCA898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UML Profiles : Table of conten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ition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Benefits &amp; positioning VS MOF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istor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Not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mantic &amp; Mechanism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4BDE-7966-4600-9588-FA180C5B6E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Profiles (Definition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4440" y="982440"/>
            <a:ext cx="5191200" cy="18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66"/>
                </a:solidFill>
                <a:latin typeface="Comic Sans MS"/>
              </a:rPr>
              <a:t>A profile is used to tailor a metamodel (like UML) to a specific platform or domai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Comic Sans MS"/>
              </a:rPr>
              <a:t>used to tag a design with information that is not captured in UM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7629480" y="2438280"/>
            <a:ext cx="362160" cy="203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4160" y="261936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473520" y="2307960"/>
            <a:ext cx="1160280" cy="5223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45680" y="217476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import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3720" y="2990880"/>
            <a:ext cx="362160" cy="20304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8400" y="317196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50000" y="3665520"/>
            <a:ext cx="362160" cy="20304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54680" y="384660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94320" y="4824360"/>
            <a:ext cx="361800" cy="203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000" y="500544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P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05880" y="5243400"/>
            <a:ext cx="361800" cy="203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10560" y="542448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70480" y="1585800"/>
            <a:ext cx="362160" cy="203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75160" y="176688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8440" y="5048280"/>
            <a:ext cx="362160" cy="20304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9080" y="522936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Real-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5988-FFE2-4EBA-97E7-C31604B1ED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s (Definition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profile defines a coherent extension to UML in order to adapt it to a specific target or domain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tereotypes allow to define extensions : Kind of metaclasses that extend UML metaclasses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tension is expressed by a new specific nota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agged-values are defined as specific attributes of stereotypes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5B1F-99E1-4D7C-8F73-DBA50228B0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7200" y="206280"/>
            <a:ext cx="7383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s extension feature (benefit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2800" y="1493640"/>
            <a:ext cx="89708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 Profile is a restricted extension mechanism which 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es extensions that can be dynamically added to or retracted from an existing model (extension flexibility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Guarantees that the model will remain consistent with the UML standard, even when extended by one or several profiles.  (Standard UML conformance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Preserves UML semantics for the extended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tended models can be exchanged with or without their extens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FC10-D462-4206-8726-50C09AE7FD7A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" dur="1" fill="hold"/>
                                  <p:tgtEl>
                                    <p:spTgt spid="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5" dur="1" fill="hold"/>
                                  <p:tgtEl>
                                    <p:spTgt spid="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tending UML : </a:t>
            </a:r>
            <a:br>
              <a:rPr sz="2400"/>
            </a:b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tandard conformance guarantee (benefit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7320" y="1087560"/>
            <a:ext cx="861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DA requires a high degree of formalization of the different models, architectures, and methodologi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n addition, mappings have to be specified in detail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is involves highly skilled people, and implies a great risk to developme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t necessitates investments in time and money before starting development, and getting ROI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endParaRPr b="0" lang="en-US" sz="34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Comic Sans MS"/>
              </a:rPr>
              <a:t>Using UML profiles guarantees that the adapted models will still be legal UML model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Comic Sans MS"/>
              </a:rPr>
              <a:t>Many Standard Profile solutions exist for some PSM’s or PIMS (examples : CORBA, EJB, Test, SysML, Qos, CCM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Comic Sans MS"/>
              </a:rPr>
              <a:t>Some very important targets have not yet standard  profiles, but on the shelf solutions (RDB, C++, etc.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Comic Sans MS"/>
              </a:rPr>
              <a:t>Build on a common basis: low learning curve, existing tools, interoperability, etc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A227-8405-4F84-A7C1-991BFDA61637}" type="slidenum">
              <a:t>7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ample of a profile based (benefits) </a:t>
            </a:r>
            <a:br>
              <a:rPr sz="2400"/>
            </a:b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DA configur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1295280"/>
          <a:ext cx="746748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46748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FF0B-3886-4619-A9C9-E41E59CFF5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UML for a specific purpose (benefits) </a:t>
            </a:r>
            <a:br>
              <a:rPr sz="2400"/>
            </a:b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= a specific profi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6640" y="124416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Profiles exist for 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echnical targets (C++, RDB, Java, CORBA, XML, Real Time, etc.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pecific disciplines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(Analysis, Design, etc.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quirement analysi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ests (test for Java, test for EJB, test for C++, etc.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etrics, quality checking, and profiles for managing configuration management rul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om early requirement down to final tests, UML profiles can drive each specific discipline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volv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7A84-4335-4737-8E4D-F15BEE7EF1AB}" type="slidenum">
              <a:t>9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6:14Z</dcterms:modified>
  <cp:revision>877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